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0AA-95A7-4540-A99D-75843D76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45A-ECD3-46C6-8446-468642AC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A37-6EE1-4BBD-920A-7D773557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4C8-E17B-4BEE-BDD0-7760D5D4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F95-428B-44B9-A110-CFAA84C0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3F3-DF81-4A4E-8F43-10633BFF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E40-F4D0-459B-B412-0CFA31AB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E95-5CBC-4316-8AB0-3C867F1A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AD0-1532-464F-85ED-163539B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95A-19CE-4305-ABEC-5DA05F6E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345-D6DE-4BCA-B776-52999FC6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F3D-E0FA-4B8F-B07C-42A7259C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95A-3C91-46B8-A545-1C1B4E0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ABA-902F-4192-B819-DF60FD2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40D-EF4C-4664-B0EF-8A9F424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9507-9806-47D7-A1ED-CD88FC7D0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ONS 15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4-XX.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D-O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HD-EXT-PN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clos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0-ODD (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05320" y="3497400"/>
            <a:ext cx="33336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MD-48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Bl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80040" y="3575160"/>
            <a:ext cx="583920" cy="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EF-40-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BGDCU-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35400" y="3533760"/>
            <a:ext cx="6732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216-FLC-CWDM-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280040" y="3546360"/>
            <a:ext cx="58392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9:49Z</dcterms:modified>
  <cp:revision>5</cp:revision>
  <dc:subject/>
  <dc:title>Slide 1</dc:title>
</cp:coreProperties>
</file>